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3F4CCA-8D14-41BA-B6D4-22A9B10D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jan matches OMI NO2 by finding the closest OMI measurement t the given ground station – no interpo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from the center of the pixel to the station varies approximately 6-60 km since the pixels vary in size across the sw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77F-D34E-48B0-A41B-960F6918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980-D33B-4015-901C-A219681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9D3-A2DD-422A-9E5A-7FCB1F43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FEC-2C33-4F53-B157-C283479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8F9-3D9A-4EE9-8BC1-C076BD70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EFE-5EB8-487D-AB6C-CD50BBD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99C-3784-4068-A504-80545FF4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DDF-F327-4E04-AE8A-52BB407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05E-C074-4953-9CEE-31387E5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8DA-9D8E-4E6F-92A8-CB64DE1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BEC-0BD3-4F45-AEFE-EF870E8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49C-3C6C-42F3-8947-2B498B6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818-6AEC-4E7D-9ABC-0B650DC8F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D Air Quality System (3D-AQ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449532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Jill Engel-Cox, Bat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: 703-875-2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ail: engelcoxj@battell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88200" cy="111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44956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Amy K. Huff, Bat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: 703-875-2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ail: huffa@battell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3526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:  Dr. Ray Hoff, University of Maryland, Baltimore Coun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ff@umb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320" y="5867280"/>
            <a:ext cx="899136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SA 3D-AQS Project: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88200" cy="111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 NASA satellite and lidar data into EPA’s air quality data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greater accessibility and usability of NASA satellite and lidar data to thei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remote sensing data in horizontal and vertical dimensions to facilitate air quality forecasting and retrospec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SA 3D-AQS Project: Current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 first datasets to AirQuest – QA in prog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32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S and GOES AOD matched to surface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i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32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S AOD matched to CMAQ 12×12 and 36×36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3D visualization methods for remote sen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ring IDEA content to operational NOAA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ioritizing next datasets for inclusion in AirQuest, based on input from End 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ound-based li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MI tropospheric NO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MI-derived tropospheric O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ALIPSO aerosol extinction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0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ISR 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8937"/>
          <a:stretch/>
        </p:blipFill>
        <p:spPr>
          <a:xfrm>
            <a:off x="5943600" y="4800600"/>
            <a:ext cx="3067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2590560" cy="1874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4419720" cy="1447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MI Tropospheric Column NO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 tropospheric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surements are rated #2 in importance by 3D-AQS End Users – big inte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GSFC’s “Standard Product” and KNMI’s “Near Real-Time Product” wanted by 3D-AQS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currently working with Bojan Bojkov at GSFC to match “Standard Product”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o EPA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rface measurements from station mon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with Summer 2005 OMI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_V002 OMI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wat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ing for cloud fraction 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21:04:45Z</dcterms:created>
  <dc:creator>Battelle</dc:creator>
  <dc:description/>
  <dc:language>en-US</dc:language>
  <cp:lastModifiedBy>sf</cp:lastModifiedBy>
  <dcterms:modified xsi:type="dcterms:W3CDTF">2007-10-30T16:05:25Z</dcterms:modified>
  <cp:revision>48</cp:revision>
  <dc:subject/>
  <dc:title>Slide 1</dc:title>
</cp:coreProperties>
</file>